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7004-E919-42AD-A3CD-D942EB0E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D20C-8216-4072-B1A0-90E9F0D1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DFD5-C80B-4A58-9896-64AD33264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99C1-ACBA-4C8E-97D2-EA58F634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DAF9-1255-4930-9156-40504CA1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ACB6-1EC5-45AC-9677-9DA99A44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CAA8-A35D-4BC8-B123-5E75494C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FBE6-31EA-4B3F-8DF9-762FECE8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746C-E3B3-4E45-AE5C-4FB965E4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3B34-24E1-4117-8E61-F5B9F9C7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8CFF-2BBE-48B7-A5F3-D67A1840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5B1A-08D5-4554-B8B7-D7636D19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E971-D485-47CB-B3FA-54B8CC3FF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toon Warm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4857480" cy="6476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9080" y="1106640"/>
            <a:ext cx="3520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down severa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bserv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out this cartoon. (What do you se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ake severa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fere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(What do you think happen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rite a caption for the cartoon. (What is the man say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toon Warm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4857480" cy="6476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9080" y="1106640"/>
            <a:ext cx="35208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 Cap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all the computations, theoretical scribblings, and lab equipment, Norm… Yes, curiosity killed these cat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2:23:45Z</dcterms:created>
  <dc:creator>Sussex County Public Schools</dc:creator>
  <dc:description/>
  <dc:language>en-US</dc:language>
  <cp:lastModifiedBy>Sussex County Public Schools</cp:lastModifiedBy>
  <dcterms:modified xsi:type="dcterms:W3CDTF">2005-09-08T12:45:35Z</dcterms:modified>
  <cp:revision>2</cp:revision>
  <dc:subject/>
  <dc:title>Cartoon Warm Up</dc:title>
</cp:coreProperties>
</file>